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F5E-C9E0-4DB4-81DB-1B23B8D4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519-E4BB-4115-BC95-B90B1D07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CB6-FC54-4DE5-8E48-6B935CEC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0D0-17A5-41CF-BF51-AECAE19A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C70C-2FE7-47A9-99EE-F14AC589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037C-F69C-4C03-BB97-DCCA80F0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942D-619A-49A5-BF88-9DE8C996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DC0A-24CB-4A7C-87AE-CA97E6D4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E6A4-6EF4-4777-8303-3DA381DE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9D45-4F51-4C0F-855C-C7FB2AD3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9EE1-E9BA-4F7E-A498-A3A983F4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256-C53F-4096-90ED-DD2E3FCF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7E79-B945-4F1C-BCA6-1AB71A77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2BD2-2C0E-43E3-9C4B-9700998D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2DC8-AA80-4477-A22D-40F91C5E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B123-71CA-4970-93DE-F2A736AF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148F-6681-4C4B-AA74-AEFCF174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CAB-1DF4-4208-921F-E7EAC58D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75E-A6D8-4247-AE95-1EE64A13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ADD-1515-49B2-8E78-8F4E5172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4BC-AD34-41A3-9D5A-F17006FE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953-6A3B-4A76-A323-F7717CD7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154-5FF4-43B2-844A-4F6D0E4B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F03-EF60-4154-8BC1-66B28027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8225-3427-4AFA-8B45-671D19416C6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7B3F-9214-489B-91CE-74B013A8E16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800" spc="-1" strike="noStrike">
                <a:solidFill>
                  <a:srgbClr val="ffff99"/>
                </a:solidFill>
                <a:latin typeface="Broadway"/>
              </a:rPr>
              <a:t>Monday, November 22, 2010</a:t>
            </a:r>
            <a:endParaRPr b="0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Determine if three given lengths can create a triangl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Determine the minimum and maximum length of a triangl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Compute angle measures of a triangl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Solve contextual situations involving angle/side length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ll Work:  Bell work:  What does intrinsic motivation and how does it apply to you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ade 6.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iew Ex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iangles and Ang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son 4.1, 2-3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 Wednesday-Polyg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Broadway"/>
              </a:rPr>
              <a:t>Geometry 1</a:t>
            </a:r>
            <a:br>
              <a:rPr sz="5100"/>
            </a:br>
            <a:r>
              <a:rPr b="0" lang="en-US" sz="3800" spc="-1" strike="noStrike">
                <a:solidFill>
                  <a:srgbClr val="ffff99"/>
                </a:solidFill>
                <a:latin typeface="Broadway"/>
              </a:rPr>
              <a:t>Wednesday, November 24, 2010</a:t>
            </a:r>
            <a:endParaRPr b="0" lang="en-US" sz="3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Determine if three given lengths can create a triangl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Determine the minimum and maximum length of a triangl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Compute angle measures of a triangl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5673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Solve contextual situations involving angle/side length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ll Work:  Today is November 24, the day before Thanksgiving.  What are you thankful for and why?  How can you show your appreciation for the things/people you are thankful fo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ckle Down –Lesson 1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1-22T19:47:22Z</dcterms:modified>
  <cp:revision>68</cp:revision>
  <dc:subject/>
  <dc:title>Slide 1</dc:title>
</cp:coreProperties>
</file>